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E0AE-6216-442E-844A-648D7FD88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43D0-D438-4BE6-A77F-240C4DD2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2EB9-F1DA-4EFD-B654-29A1D6C81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D834-FAFD-42AF-B1FC-0F3D09232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C75D-41D6-495B-A009-1A60F3310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58C6-C5E4-4265-BD41-411185E7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61E3-1EA9-4A5C-AADD-70D23544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4C93-6D74-4433-B88F-B08ABFB3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ED7E-3996-436C-9FA2-03B0696D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6E2B-A446-4F0C-9A3E-35BAA48D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DE34-FB52-43BA-8F87-A539137F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626E-CB4C-4C94-93D4-108E9DB6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C433-6732-46BF-A5E6-F76CDADC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DCD2-6B8D-4E00-8F68-4F4EEE2A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8D37-E1EA-48D5-AE3D-5B23F5DB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7C16-3058-4A2A-8103-80428452F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DB69-CC36-4A30-A765-308F3FB0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CC53-9B9A-40B5-8D36-B65D1DF9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D23D-5357-41D4-BB6C-AA579092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E63C-CA2B-471F-BB35-360DBAD7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29C2-EB80-45A4-A780-B989AE2E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A6B6-72BB-494C-A860-5462806A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DFD2-A0F3-4156-ABD9-581ED4F5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9AFE-8D29-41CC-952E-6B1C94D4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CD04-8D17-4272-B7FA-1A1553317455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8D69-DBA5-4740-BF20-AD347F718C94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养成教育</a:t>
            </a:r>
            <a:endParaRPr b="0" lang="en-US" sz="8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9280" y="3933360"/>
            <a:ext cx="8604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　　　　　关鸿羽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摘自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　　　　　（教育就是培养习惯）一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七、养成教育要与时俱进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11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养成教育，必须赋予新时期的内容和要求，以适应社会发展的需要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现问题的习惯，思考的习惯，敢于质疑的习惯，自学的习惯，收集信息的习惯，诚信的习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团队合作的习惯，尊重他人的习惯，自我评价自我反思的习惯等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既使是传统的习惯也要增加新的内涵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能以牺牲创新精神来进行养成教育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八、养成教育的意义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12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养成教育有利于孩子成才、成人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习惯是一种顽强的巨大的力量，它可以主宰人生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懒虫”、“小馋猫”、“小犟牛”、“小磨蹭”、“小马虎”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小养成良好的行为习惯，将会使孩子受益终身，而养成不良习惯，是贻害无穷的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养成教育有利于家庭和睦幸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18 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养成教育有利于社会的进步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19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素质教育与养成教育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28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叶圣陶先生说：“教育是什么，往简单方面说，只须一句话，就是要养成良好的习惯。 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小学老师到大学教授，他们的任务就是帮助学生养成良好的习惯，帮助学生养成政治方面、文化科学方面的良好习惯。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德育就是要养成良好的行为习惯，智育就是要养成良好的学习习惯，体育就是要养成良好的锻炼身体的习惯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新宋体"/>
                <a:ea typeface="新宋体"/>
              </a:rPr>
              <a:t>素质教育观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新宋体"/>
                <a:ea typeface="新宋体"/>
              </a:rPr>
              <a:t>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新宋体"/>
                <a:ea typeface="新宋体"/>
              </a:rPr>
              <a:t>p28       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）一切为了学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）为了一切学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）为了学生的一切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）为了学生的一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新宋体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二章养成教育的内容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新宋体"/>
                <a:ea typeface="新宋体"/>
              </a:rPr>
              <a:t>封建社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忠、孝、仁、义、礼、智、信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新宋体"/>
                <a:ea typeface="新宋体"/>
              </a:rPr>
              <a:t>资本主义社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自由、民主、平等、博爱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新宋体"/>
                <a:ea typeface="新宋体"/>
              </a:rPr>
              <a:t>社会主义社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东方传统美德与新观念有机结合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虽然优良传统必须发扬，但也要根据时代发展增加新的内容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既使是传统内容也要赋予新的内涵，从新的角度上来研究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章养成教育的基本理论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什么是养成教育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谓“养成教育”，就是培养学生良好行为习惯的教育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养成教育既包括正确行为的指导也包括良好习惯的训练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既包括行为习惯培养也包括语言习惯、思维习惯的培养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、养成教育的内容要规范化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33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堵漏洞式”的教育，“救火式”的教育，就是一种盲目性。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育就是要把人类积累的社会文化和规范意识传给下一代，用人类的基础文明去武装后代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养成教育内容要细目化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35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4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近一点、小一点、实一点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给孩子提要求要尽量看得见、摸得着，具体、形象、直观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提出的要求要明确而不含糊，具体而不抽象。 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孝敬父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－－－－－－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71 </a:t>
            </a:r>
            <a:br>
              <a:rPr sz="4000"/>
            </a:b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412640"/>
            <a:ext cx="8540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辈回家或外出时要主动站起来迎送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提出要求时，父母没答应，不许耍横，任性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期分担家庭的一、二项劳动，搞“家务劳动承包制”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了好吃的先让长辈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　　　（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条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养成教育的内容要序列化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36</a:t>
            </a:r>
            <a:br>
              <a:rPr sz="4000"/>
            </a:b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制订序列化方案的依据主要有两条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条是党和国家对青少年一代的要求，另一条是学生的年龄特点、心理状况和思想实际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“中心扩散说”理论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“阶段说”理论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“循环说”理论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三章养成教育的途径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校内部要一致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44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德育干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班主任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德育课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各科教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信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家庭教育与学校教育要一致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45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师抓了家庭教育可以多许多的“帮手”，不抓家庭教育就有可能多许多“对手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新宋体"/>
                <a:ea typeface="新宋体"/>
              </a:rPr>
              <a:t>配合　　　　　　　ｐ</a:t>
            </a:r>
            <a:r>
              <a:rPr b="1" lang="zh-CN" sz="4400" spc="-1" strike="noStrike">
                <a:solidFill>
                  <a:srgbClr val="000000"/>
                </a:solidFill>
                <a:latin typeface="新宋体"/>
                <a:ea typeface="新宋体"/>
              </a:rPr>
              <a:t>48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通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意识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观念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方法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四章．养成教育的方法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60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训练法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训练必须持之以恒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训练必须严而又严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训练中要调动孩子的积极性，做到五个结合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激发兴趣与严格训练相结合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明确要求与具体指导相结合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检查评比与自我评价相结合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纪律制约与自我要求相结合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反复强化与积极疏导相结合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、言教法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71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切忌讽刺、挖苦，要以理服人。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切忌唠唠叨叨，要简练、深刻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切忌空话、大话，要有情感性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切忌盲目性，要做到“事先备课”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切忌脱离实际，要符合孩子年龄特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切忌强迫命令，要考虑孩子需要 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身教法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88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彩云"/>
              </a:rPr>
              <a:t>以身立教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以德育德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以学促学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趣激趣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情动情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意炼意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性养性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行导行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、什么是习惯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习惯不是一般的行为，而是一种定型性行为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习惯是经过反复练习而养成的语言、思维、行为等生活方式，它是人们头脑中建立起来的一系列条件反射，这种条件反射是在重复出现而有规律的刺激下形成的，并且在大脑中建立了稳固的神经联系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新宋体"/>
                <a:ea typeface="新宋体"/>
              </a:rPr>
              <a:t>学生观</a:t>
            </a:r>
            <a:br>
              <a:rPr sz="4400"/>
            </a:b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学生是人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学生是未成年的人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学生是有能动性的人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学生是有潜力的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(5)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学生是终究要长大的人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、境教法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名画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名曲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名著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名剧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名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九、负强化法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138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有明确的目的。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注意态度。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公正合理、恰如其分。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一分为二，不要全盘否定。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掌握好批评的时间。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抓好批评的时机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选择批评的场合、地点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注意批评的次数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9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善于等待，允许孩子有个认识过程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有针对性、讲究方式方法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批评的方式方法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暗示式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商讨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交换式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责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比式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6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迂回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7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爆炸式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8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过渡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9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勉励式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10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喻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五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道德习惯培养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劳动教育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179</a:t>
            </a:r>
            <a:br>
              <a:rPr sz="4000"/>
            </a:b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己的事自己干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家里的事帮着干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集体的事抢着干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社会的事主动干－－－－－－－－－－－－－－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金钱观教育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195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金钱不是白来的，需要辛苦的劳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花钱要节制，不要挥霍浪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金钱不是万能的，还有比金钱更重要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取财有道，不义之财不可取－－－－－－－－－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226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消费观教育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存性消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展性消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交际性消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精神性消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道德性消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学习习惯培养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摘自关鸿羽著作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（如何提高孩子的学习成绩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习惯培养的内容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156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与生理卫生有关的学习习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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科学用脑习惯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科学用眼习惯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写字握笔习惯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看书坐姿习惯；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有规律的作息习惯等等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、人的行为模式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5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型性行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非定型性行为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与学习方法有关的学习习惯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认真预习的习惯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专心听讲的习惯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时完成作业的习惯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独立思考的习惯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勇于提问的习惯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乐于研讨的习惯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阅读的习惯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学的习惯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总结的习惯等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与学习态度有关的学习习惯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专心的习惯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仔细认真的习惯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惜时的习惯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讲求效率的习惯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勤学的习惯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虚心的习惯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独立学习的习惯等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学习习惯培养的具体方法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马虎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-----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错题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190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建错误档案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到错误之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出错误原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写出正确答案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马虎的来历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马虎与成柴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用橡皮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草稿不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注意埋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剖习题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854064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矫正不专心坏习惯的策略与方法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猫钓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阿基米德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任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责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紧迫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阅读速度实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难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疲劳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弗力查价测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绿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鲜花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阿纳斯实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早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营养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纪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意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专注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欲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兴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专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干扰训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专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书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禅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米诺骨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迷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三拍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泥人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剪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插花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纪昌学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棋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全方位指导学生学习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192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习目的 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方法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36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08520" indent="-308520" algn="just">
              <a:lnSpc>
                <a:spcPct val="192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习态度：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方法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68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08520" indent="-308520" algn="just">
              <a:lnSpc>
                <a:spcPct val="192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习兴趣：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方法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109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08520" indent="-308520" algn="just">
              <a:lnSpc>
                <a:spcPct val="192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习习惯：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方法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152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08520" indent="-308520" algn="just">
              <a:lnSpc>
                <a:spcPct val="192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习方法 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方法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211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激发学习动机端正学习目的的策略与方法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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讲究教育艺术，淡化教育痕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　　　　　不教而教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点拨升华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45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目的的确立是一步步升华的，但是这个升华需要家长点拨。点拨好了就可以帮助孩子把低级的认识上升到高级的认识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热处理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46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谓热处理，就是要抓住学生的热点进行教育，学生热，教育者也热，以热对热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、人的行为水平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6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的行为有四个层次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低层次是被动性行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个层次是自发性行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个层次是自觉性行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高层次是自动性行为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30492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备课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44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4064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次讲什么内容；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达到什么目的；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选择哪些事例；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引用什么格言谚语；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何讲得有感染力；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何讲得有吸引力；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何具有鼓动性；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何具有知识性；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何具有趣味性；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遇事而诲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49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遇事而诲；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遇物而诲；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遇功而诲；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遇败而诲；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遇热而诲；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遇趣而诲；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遇潮而诲；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遇惧而诲；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遇变而诲；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遇欲而诲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.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羊娃”与“感受大学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负激励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动机迁移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归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切拨曼和费得的实验与竞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凯尔和赫尔赛的研究与期望值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闪光点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认知平衡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名人崇拜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就动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6.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银行存款”和“我要上学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7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附加条件与节制欲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态度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68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态度的概念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态度是在学习活动中形成的对学习活动比较稳定的反应倾向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6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习态度测试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76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端正学习态度的策略与方法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学习气氛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80 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是环境的产物，正确的学习态度总是在一定的环境下形成的。在一定意义上说，校风．学风．班风．家风将决定孩子的学习态度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07320" y="3246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572"/>
                </a:solidFill>
                <a:latin typeface="Arial"/>
              </a:rPr>
              <a:t>学习态度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4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关心学习过程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5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406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学习努力不努力，刻苦不刻苦？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有没有学习兴趣，学习积极性如何？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学习时有没有独立性，是否总想依赖家长？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4)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遇到困难有没有信心，能主动克服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?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5)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学习时间长了烦不烦，有没有毅力？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6)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对学习有没有荣誉感，学习上有没有争强好胜的劲头？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7)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上课听讲专心吗，有没有小动作？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8)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上课爱不爱举手回答问题？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9)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能认真完成作业吗？有没有偷懒的情况？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10)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做作业快不快，有没有磨蹭的现象？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11)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做作业仔细不仔细，有没有马虎的习惯？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12)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做完作业能自己检查吗，会不会查漏补缺？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13)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天能预习吗，预习效益如何？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14)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天能复习功课吗，是否等到期末才复习？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15)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学习时有没有计划，有作息时间表吗？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16)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思维灵敏不灵敏，爱不爱钻牛角尖？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17)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考试害怕不害怕，有没有考试焦虑？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18)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老师的关系如何？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情感感化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26</a:t>
            </a:r>
            <a:br>
              <a:rPr sz="4000"/>
            </a:b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会“冷处理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解决厌学的策略与方法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积极因素越抓越积极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117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成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激励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定要多给孩子以鼓励，让孩子尝到学习的甜头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伸手摸不到，跳一跳能摘到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122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简单处学起，放慢速度，让孩子学懂、学会，看到成绩，尝到甜头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注意知识的阶梯性，循序渐进，孩子学了有收获，才会兴味无穷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采取“低要求，小步走”的策略 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养成教育在德育中的位置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7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有认识而没有行为习惯是不完全的教育。其弊病就是知行脱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中共中央关于改革和加强中、小学德育工作的通知》中所指出的：“德育对中、小学特别是小学生更多的是养成教育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生学习积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状态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自由参与探索时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遭遇到理智的挑战时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发现知识的意义时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被鼓舞和被信任时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教师充满向心力时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学以致用时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教学方法灵活多变时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更高的自我期待时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身心处于最佳状态时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孩子考家长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减轻感觉上的负担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游戏性学习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西奥雷尔成才与好奇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松里紧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数隐私与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欲擒故纵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何处理家长与老师的关系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发现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暗示学习法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断效应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伙伴学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起于疑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知出乎争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跳高实验与目标迁移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卡耐基的假戏真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学习的基本过程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——六先六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219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先计划后学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先预习后听讲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先复习后做作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先调整心态后参加考试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先独立思考后请教别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先打好基础后灵活思维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234</a:t>
            </a:r>
            <a:br>
              <a:rPr sz="4400"/>
            </a:b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的具体方法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8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边读边想“九设问”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255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什么是这样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什么不是那样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加条件行吗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减少条件行吗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5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哪些是重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6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哪些是难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7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哪里还有疑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8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哪些知识与旧知识有联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9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怎样联系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重点和难点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261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提高声调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加重语气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放慢速度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情丰富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板书或用颜色粉笔标出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反复强调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将重点直接告诉同学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抓要点，听“三基”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260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基本概念是重点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概念的含义（内涵）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概念所包括的范围（外延）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个概念与其它概念的区别，从而掌握这个事物区别于其它事物的根本特征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基本规律是重点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规律性的知识统称为原理，规律往往用定理、公式等反映出来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基本思路是重点</a:t>
            </a:r>
            <a:br>
              <a:rPr sz="4400"/>
            </a:b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51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师课上是怎么分析问题的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么把各种概念、原理综合起来说明问题的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么进行推理的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304920"/>
            <a:ext cx="838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课堂笔记“十记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266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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9640" y="838080"/>
            <a:ext cx="8229600" cy="62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重点要理清；难点不放过；疑点做标记。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记纲要，掌握知识结构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记疑难，有待扫清障碍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记补充，有利知识扩展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记教师讲课的重点、难点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记老师的板书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记老师所画的图表，它往往是带有规律性的东西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记老师提出的观点和推导过程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记老师讲课的思路和思维方法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记听课过程中自己头脑迸发出的思维火花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记学习困难的地方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六、养成教育的关键期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8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谓教育的“关键期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叫关键年龄、最佳年龄、临界期、敏感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是指人生学习的最佳时期。在这个年龄段培养孩子的行为习惯成效最大。如果在这个年龄段对孩子实施某种教育，可以事半功倍，而一旦错过了这个年龄段，再进行这种教育，效果就明显差多了，有时不只是事倍功半的问题，甚至终身难以弥补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过电影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p278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老师讲了一个什么题目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这个题目里分哪几部分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这几部分的关系是什么</a:t>
            </a:r>
            <a:r>
              <a:rPr b="1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中心是什么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结论是什么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抓住“六基”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p290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基本概念要牢记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基本公式要熟练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基本规律要理解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基本体系要形成网络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基本例题要吃透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基本疑点要攻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理解消化“五要素”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292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弄清来龙去脉；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沟通相互关系；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掌握推证过程；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注意表达形式；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明确主要用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自我检查九法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331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正向检查法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逆向检查法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常识检查法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单位检查法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特例检查法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化简检查法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数形检查法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条件检查法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逻辑检查法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审题“五要”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360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审题要“全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审题要“细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审题要“准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审题要看“懂”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审题要“稳”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谢 谢</a:t>
            </a:r>
            <a:endParaRPr b="0" lang="en-US" sz="72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　　关鸿羽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内、外近半个世纪的有关研究表明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月是婴儿学习咀嚼的关键期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月是分辨大小、多少的关键期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是学习口头语言的第一个关键期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半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是教孩子怎样做到有规矩的关键期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是计算能力发展的关键期（指数数儿和点数儿、按要求取物品及说出总数等）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是音乐能力发展的关键期（拉提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开始、弹钢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开始）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是学习书面语言的关键期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是学习外国语的关键期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和青少年期是培养独立性的两个关键期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以前是形成形象视觉发展的关键期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是掌握词汇的关键期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左右是掌握数的概念的关键期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是孩子行动由注重后果过渡到注重动机的关键期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幼儿阶段是观察力发展的关键期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小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级是学习习惯培养的关键期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小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级是纪律分化的关键期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小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级，初二、高二是逻辑思维发展的关键期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小学阶段是记忆力发展的关键期，是记忆的黄金时代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初中阶段是意义记忆的关键期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4T07:59:08Z</dcterms:created>
  <dc:creator>Guan</dc:creator>
  <dc:description/>
  <dc:language>en-US</dc:language>
  <cp:lastModifiedBy>User</cp:lastModifiedBy>
  <dcterms:modified xsi:type="dcterms:W3CDTF">2013-04-13T14:24:19Z</dcterms:modified>
  <cp:revision>98</cp:revision>
  <dc:subject/>
  <dc:title>养成教育</dc:title>
</cp:coreProperties>
</file>